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C52-47E3-4F25-B1DC-17EF7EAE823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AE1F-0513-4E40-B58F-9D9888692C8A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54DF-BF35-440E-8A5E-39975037388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221-E180-410A-8886-CE83F288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761-21A8-4D9B-B24A-2D54E65C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864-1588-4310-B955-3630F220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E98-261C-406F-A64C-8545353E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3F7-BA5A-4B8A-A84C-A122577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48D-CAE3-4D4F-8AB9-84D75D4D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AEB-92FC-4EDE-9B66-9E666A0C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631-D96D-4DA9-83BB-87D7EB6F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4D2-C95E-459C-8AFB-818D30FA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16A-6BDB-4013-8371-7F4165A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412-1731-4649-AAB1-C9DC001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3DC-52E1-4D5B-9C60-C2CCD50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99FE-8F91-4716-AF20-AFE3138BEDF2}" type="slidenum">
              <a:rPr b="0" lang="en-I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r>
              <a:rPr b="0" lang="en-IE" sz="3600" spc="-1" strike="noStrike">
                <a:solidFill>
                  <a:srgbClr val="ffffff"/>
                </a:solidFill>
                <a:latin typeface="Copperplate Gothic Bold"/>
              </a:rPr>
              <a:t>Student Universal Support Ireland (Susi)gra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c3836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IMPORTANT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6659640" y="765000"/>
            <a:ext cx="1695240" cy="1114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HOW TO A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Log onto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Calibri"/>
              </a:rPr>
              <a:t>www.susi.ie 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. Beginning/mid M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You have to answer list of questions relating to your family and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Your answers are then forwarded to SUSI. They will get back to let you know if you have been eli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You will be asked to forward documents relating to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The sooner you send in documents the sooner your grant will be proce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en you send in these documents they will be asse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si will then issue you with a final deci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will be paid your grant in </a:t>
            </a:r>
            <a:r>
              <a:rPr b="1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9 monthly instalments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into a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designated bank account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ll information relating to grant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ome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Registration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cument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included on a handout in your packs or log o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alibri"/>
              </a:rPr>
              <a:t>www.studentfinance.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LEVELS OF MAINTENANCE GR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VEL OF G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N-ADJACENT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JACENT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ENT CONTRIBUTION PA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 rate* (family income less than €22,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 9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rate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 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rate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rate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rate-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FAMILY INCOME LE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4000" y="1773360"/>
          <a:ext cx="8424720" cy="4751280"/>
        </p:xfrm>
        <a:graphic>
          <a:graphicData uri="http://schemas.openxmlformats.org/drawingml/2006/table">
            <a:tbl>
              <a:tblPr/>
              <a:tblGrid>
                <a:gridCol w="1203120"/>
                <a:gridCol w="1203480"/>
                <a:gridCol w="1203120"/>
                <a:gridCol w="1204920"/>
                <a:gridCol w="1203480"/>
                <a:gridCol w="1203120"/>
                <a:gridCol w="1203480"/>
              </a:tblGrid>
              <a:tr h="11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 of dependent</a:t>
                      </a: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al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tenance10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5% </a:t>
                      </a: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te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% </a:t>
                      </a: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te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% </a:t>
                      </a: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te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mpt from S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wer than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 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 915(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 375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 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, 025(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, 215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 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270(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10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 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, 515(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05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 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55(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5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 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 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 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 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 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 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 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 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 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 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 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Break down on weekly b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114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maintenance g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n-adjacent rate(greater than 45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jacent rate(less than 45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maintenance Full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maintenance Part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maintenance Part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maintenance Part-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 rate-income less than €22 000(on social welf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000" spc="-1" strike="noStrike">
                <a:solidFill>
                  <a:srgbClr val="000000"/>
                </a:solidFill>
                <a:latin typeface="Calibri"/>
              </a:rPr>
              <a:t>Studying abro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ligible students attending approved courses in approved institutions outside the Republic, at undergraduate level only, receive a </a:t>
            </a:r>
            <a:r>
              <a:rPr b="0" lang="ga-IE" sz="3200" spc="-1" strike="noStrike" u="sng">
                <a:solidFill>
                  <a:srgbClr val="ff0000"/>
                </a:solidFill>
                <a:uFillTx/>
                <a:latin typeface="Calibri"/>
              </a:rPr>
              <a:t>maintenance grant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from Su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here is </a:t>
            </a:r>
            <a:r>
              <a:rPr b="1" lang="ga-IE" sz="3200" spc="-1" strike="noStrike" u="sng">
                <a:solidFill>
                  <a:srgbClr val="ff0000"/>
                </a:solidFill>
                <a:uFillTx/>
                <a:latin typeface="Calibri"/>
              </a:rPr>
              <a:t>no funding available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owards fees and it should be noted that there is no funding available at </a:t>
            </a:r>
            <a:r>
              <a:rPr b="1" lang="ga-IE" sz="3200" spc="-1" strike="noStrike">
                <a:solidFill>
                  <a:srgbClr val="ff0000"/>
                </a:solidFill>
                <a:latin typeface="Calibri"/>
              </a:rPr>
              <a:t>further education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ga-IE" sz="3200" spc="-1" strike="noStrike">
                <a:solidFill>
                  <a:srgbClr val="ff0000"/>
                </a:solidFill>
                <a:latin typeface="Calibri"/>
              </a:rPr>
              <a:t>postgraduat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ga-IE" sz="3200" spc="-1" strike="noStrike">
                <a:solidFill>
                  <a:srgbClr val="ff0000"/>
                </a:solidFill>
                <a:latin typeface="Calibri"/>
              </a:rPr>
              <a:t>education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(except for some courses in 4 institutions in Northern Ireland) for students studying outside the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 u="sng">
                <a:solidFill>
                  <a:srgbClr val="000000"/>
                </a:solidFill>
                <a:uFillTx/>
                <a:latin typeface="Calibri"/>
              </a:rPr>
              <a:t>Postgraduate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560" y="1557000"/>
            <a:ext cx="84358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tudents who are studying on an approved course in the Irish state or selected postgraduate courses in Northern Ireland are only eligible to receive a </a:t>
            </a:r>
            <a:r>
              <a:rPr b="1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postgraduate fee contrib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not eligibl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to receive any </a:t>
            </a:r>
            <a:r>
              <a:rPr b="1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maintenance payments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C:\Documents and Settings\Fitzpatrickm\Local Settings\Temporary Internet Files\Content.IE5\KTMR41EZ\graduation_graphics_01[1].gif"/>
          <p:cNvPicPr/>
          <p:nvPr/>
        </p:nvPicPr>
        <p:blipFill>
          <a:blip r:embed="rId1"/>
          <a:stretch/>
        </p:blipFill>
        <p:spPr>
          <a:xfrm>
            <a:off x="5580000" y="3635280"/>
            <a:ext cx="1233720" cy="123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ART-TIME J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tudents are allowed to earn up to </a:t>
            </a:r>
            <a:r>
              <a:rPr b="1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€3, 809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ich is not assessed for grant purpo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Normally if you earn more than this and are resident with your parents from October 1 of the year before entry to your course, your income is assessed with your parents’ inc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Documents and Settings\Fitzpatrickm\Local Settings\Temporary Internet Files\Content.IE5\690NAPQ5\PngMedium-penguin-working-as-a-network-administrator--17393[1].gif"/>
          <p:cNvPicPr/>
          <p:nvPr/>
        </p:nvPicPr>
        <p:blipFill>
          <a:blip r:embed="rId1"/>
          <a:stretch/>
        </p:blipFill>
        <p:spPr>
          <a:xfrm>
            <a:off x="5796000" y="2376360"/>
            <a:ext cx="122400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hat income is disregard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ertain payments are disregarded when calculating reckonable income. These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hild benef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amily income supp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isability allowance (paid to applic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lind pension (when paid to applic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ne parent family payments (means tested) where paid to the applic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 u="sng">
                <a:solidFill>
                  <a:srgbClr val="000000"/>
                </a:solidFill>
                <a:uFillTx/>
                <a:latin typeface="Calibri"/>
              </a:rPr>
              <a:t>CLASSES OF GR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ff"/>
                </a:solidFill>
                <a:latin typeface="Calibri"/>
              </a:rPr>
              <a:t>MAINTENANCE GRANT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money to help you live while at colle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ff"/>
                </a:solidFill>
                <a:latin typeface="Calibri"/>
              </a:rPr>
              <a:t>FEE GRANT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payment of course fees if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ff"/>
                </a:solidFill>
                <a:latin typeface="Calibri"/>
              </a:rPr>
              <a:t>A POST-GRADUATE FEE CON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Guardian’s pay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oster care allow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miciliary allow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arer’s allow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tudents assistant f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tudent gr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What is the reference period for calculating inco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or the academic year 2017/2018 the reference period is from 1 January to 31 January 201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 u="sng">
                <a:solidFill>
                  <a:srgbClr val="000000"/>
                </a:solidFill>
                <a:uFillTx/>
                <a:latin typeface="Calibri"/>
              </a:rPr>
              <a:t>Divorced or separated par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ith regard to divorced or separated parents, the income of the applicant and that of the parent with whom he/she lives will be taken into account. If parents are separated but remain living in the same house as the applicant, both</a:t>
            </a:r>
            <a:r>
              <a:rPr b="0" lang="en-IE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omes will be taken into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 u="sng">
                <a:solidFill>
                  <a:srgbClr val="000000"/>
                </a:solidFill>
                <a:uFillTx/>
                <a:latin typeface="Calibri"/>
              </a:rPr>
              <a:t>MAINTENANCE GR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0000"/>
                </a:solidFill>
                <a:latin typeface="Calibri"/>
              </a:rPr>
              <a:t>This is a contribution towards the cost of living while at college. </a:t>
            </a:r>
            <a:r>
              <a:rPr b="1" lang="en-IE" sz="3000" spc="-1" strike="noStrike" u="sng">
                <a:solidFill>
                  <a:srgbClr val="ffffff"/>
                </a:solidFill>
                <a:uFillTx/>
                <a:latin typeface="Calibri"/>
              </a:rPr>
              <a:t>costs of a stud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The student will receive either 100%, 75%, 50%, 25% of the grant. Higher income families may just get their student services charge paid, or 50% of the student services charge pa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There are no college fees for EU nation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48392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maintenance grant is paid at either the </a:t>
            </a:r>
            <a:r>
              <a:rPr b="1" lang="en-IE" sz="3200" spc="-1" strike="noStrike" u="sng">
                <a:solidFill>
                  <a:srgbClr val="ff0000"/>
                </a:solidFill>
                <a:uFillTx/>
                <a:latin typeface="Calibri"/>
              </a:rPr>
              <a:t>adjacent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(living at home) rate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ff0000"/>
                </a:solidFill>
                <a:uFillTx/>
                <a:latin typeface="Calibri"/>
              </a:rPr>
              <a:t>Non-adjacent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(living more than 45km away from home) r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Calibri"/>
              </a:rPr>
              <a:t>So if you are living away from home you get more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Fitzpatrickm\Local Settings\Temporary Internet Files\Content.IE5\6P8JMJ09\1024px-Sert_-_happy_smile.svg[1].png"/>
          <p:cNvPicPr/>
          <p:nvPr/>
        </p:nvPicPr>
        <p:blipFill>
          <a:blip r:embed="rId1"/>
          <a:stretch/>
        </p:blipFill>
        <p:spPr>
          <a:xfrm>
            <a:off x="7981920" y="7540560"/>
            <a:ext cx="2765520" cy="276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Documents and Settings\Fitzpatrickm\Local Settings\Temporary Internet Files\Content.IE5\KTI3S96N\face-smile[1].png"/>
          <p:cNvPicPr/>
          <p:nvPr/>
        </p:nvPicPr>
        <p:blipFill>
          <a:blip r:embed="rId2"/>
          <a:stretch/>
        </p:blipFill>
        <p:spPr>
          <a:xfrm>
            <a:off x="6485040" y="4797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FEE GR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f you are pursuing an approved undergraduate course in the state, and your fees are not being met under the </a:t>
            </a: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Free Fees Schem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, you may be eligible for the tuition fee element of the gr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mount payable is dependent on inc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Calibri"/>
              </a:rPr>
              <a:t>STUDENT CON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While all students are entitled to have their fees paid under the Free Fees Scheme students are still entitled to pay a student contribution char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The student contribution charge is € 3 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If you are entitled to any portion of the maintenance grant, this is pa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ff"/>
                </a:solidFill>
                <a:latin typeface="Calibri"/>
              </a:rPr>
              <a:t>You do not have to pay this if you are doing a PLC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ho can apply for a gr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936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ll students who want to do a course at an </a:t>
            </a:r>
            <a:r>
              <a:rPr b="1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approved educational institut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. Course must be at least one year. These cours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99"/>
                </a:solidFill>
                <a:latin typeface="Calibri"/>
              </a:rPr>
              <a:t>Post Leaving Certificate 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ourses(Level 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99"/>
                </a:solidFill>
                <a:latin typeface="Calibri"/>
              </a:rPr>
              <a:t>Higher Certificate 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ourses(Level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99"/>
                </a:solidFill>
                <a:latin typeface="Calibri"/>
              </a:rPr>
              <a:t>Ordinary Degrees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(Level</a:t>
            </a:r>
            <a:r>
              <a:rPr b="0" lang="en-IE" sz="2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99"/>
                </a:solidFill>
                <a:latin typeface="Calibri"/>
              </a:rPr>
              <a:t>Honours Degrees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(Level</a:t>
            </a:r>
            <a:r>
              <a:rPr b="0" lang="en-IE" sz="2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solidFill>
            <a:srgbClr val="c6d9f1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An approved educational instit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4920" y="1268280"/>
            <a:ext cx="8280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Post Leaving Certificate College (Crumlin /Ballyfermot / Inchicore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n Institute of Technology (DIT /IT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 University (UCD/ NUIM/ DCU / Trinity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 college of Education (St. Patricks, Drumcondra, Mari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n approved Educational Institute in the </a:t>
            </a:r>
            <a:r>
              <a:rPr b="0" lang="en-IE" sz="2800" spc="-1" strike="noStrike">
                <a:solidFill>
                  <a:srgbClr val="000099"/>
                </a:solidFill>
                <a:latin typeface="Calibri"/>
              </a:rPr>
              <a:t>EU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 where the course is of at least </a:t>
            </a:r>
            <a:r>
              <a:rPr b="1" lang="en-IE" sz="2800" spc="-1" strike="noStrike">
                <a:solidFill>
                  <a:srgbClr val="000000"/>
                </a:solidFill>
                <a:latin typeface="Calibri"/>
              </a:rPr>
              <a:t>2 years du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n approved Educational Institute in Northern Ireland where they can undertake a Post-Graduate qualif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REGULATIONS REGARDING NATION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must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ris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n EU Na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ave official Refugee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ave been granted humanitarian leave to remain in Ire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Be married to an Irish national or the child of an Irish nati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Stamp 4 is not sufficient – it must bear </a:t>
            </a:r>
            <a:r>
              <a:rPr b="1" lang="en-IE" sz="2800" spc="-1" strike="noStrike">
                <a:solidFill>
                  <a:srgbClr val="000000"/>
                </a:solidFill>
                <a:latin typeface="Calibri"/>
              </a:rPr>
              <a:t>4EUFam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1:45:11Z</dcterms:created>
  <dc:creator>Administrator</dc:creator>
  <dc:description/>
  <dc:language>en-US</dc:language>
  <cp:lastModifiedBy>Aisling</cp:lastModifiedBy>
  <cp:lastPrinted>2013-12-02T14:18:51Z</cp:lastPrinted>
  <dcterms:modified xsi:type="dcterms:W3CDTF">2017-01-17T16:40:02Z</dcterms:modified>
  <cp:revision>48</cp:revision>
  <dc:subject/>
  <dc:title>HIGHER EDUCATION GRANT</dc:title>
</cp:coreProperties>
</file>